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A85E-AF11-4EB2-9B51-B5F9915D8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AF95-7F0F-44F9-812B-4BB423090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3799-3CE8-4C7B-838B-F09BD38A5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60D4-C810-4A00-B44F-1F2F53E1A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E2EE-6DE3-4EEB-8933-5531A6EE5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896E-8C1A-4F25-9250-586F16692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0D58-06C9-49F8-AB08-402898ED9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A435-EA7E-4819-81BB-8D8420314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ADD4-ADC2-4447-9E9B-906897F62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297B-8380-4773-80B7-67DAF82F5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410-ED26-497E-94BB-5FDDF1B667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DF20-A3AB-46BA-AF5D-8AB7E85D1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A4C4-96E8-4D28-AEA0-F97CA58C5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EADF-38C2-4684-9951-FC026E177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67D5-E10F-4D09-B83E-96FD2502A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E60E-B53E-40A0-8E4C-17CABEE1FB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16C7-DF5C-4973-9CEC-6ACA6F017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F6F0-2588-40DD-8546-B188E2C34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7540-6B9E-42BF-B29C-9A6DD3CA1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99E7-53A7-40FB-B76E-ACA1A0C02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8A7-02F2-4257-BC89-044756369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6063-CB02-4DCF-81AC-E04B15241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D65-1D66-4209-BEF6-BBE4F5F3F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6EAD-F328-4907-8D4B-77DD3954B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C39C-21E0-489A-B88C-8FE044395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8165-6CDC-421D-B9BC-E7256B5F2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978-150F-4582-82B4-F7545870C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C961-45D5-4EAE-ABBF-4A7829DEF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9529-D7DB-4D62-89FB-830FAD0DE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465A-C5A7-41FF-913A-228FFE511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3970-6084-4EBF-BA22-7BE12F370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BDF2-92F7-4059-8FCE-0A7F34273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E55E-0FA8-4578-913A-D9E134B35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2F35-5478-4ADA-9443-ACF7666B9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2126-EF10-4ABC-9AEB-7FAA74DD1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8F6-7077-405E-AF34-AC19836EF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C121-9B89-4BC8-AC66-2729FB035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C9E7-D3C9-4BB9-9129-4AAFF39A6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BF9B-A8C6-41BD-9361-B7F34A1E6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77EF-C683-49DD-B5E1-8FC114B63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2ABF-8367-4959-8C28-7DA7CC530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6544-D30C-4868-BD12-86ADA6DA9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AD1-EAFB-40E9-ABC6-DE7C85BBA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1536-63DA-4228-B7E2-D995FB654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533E-7B65-4A3D-B65D-DBEFFB4DA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CCC1-11F3-4347-9A87-1D1896662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5560-EABE-4E8B-B420-D27017806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D673-0C21-4466-8FB0-4D03B7A0F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075-61AF-47DB-80E1-0185E8799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14CF-EC02-4C56-98BA-DFCAAB54C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9B2F-F3F7-4C6B-A543-AED4B1C4F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368A-3286-4561-81AD-B86603E3C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D722-27AE-433B-9779-4122C461E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0F9C-E060-481E-9997-1D75914E6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881C-FCA9-44F1-A69F-253ABE583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9ECE-239B-4D97-84C5-05EE682E3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39E7-84C7-46EF-9CE1-19B961080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12A6-E08C-4DA2-898A-CF2E36843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9C87-089A-45C6-ACCA-E87C4D00C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1F80-945B-439B-BAA9-A127C99C4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6855-9933-43A0-B4DC-677B77D9B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DA0F-9909-481F-B24C-29AE2A6DA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6A8D-6EDA-425B-A2D4-FA7C0081F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261B-18E1-4E15-A4FC-296AC4980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5366-6309-47DC-8326-EA3DE83C0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D670-27D6-41D6-9238-C96798FFE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2C0-7DEC-4700-839F-80EAEF1D0F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54F-91EB-4DD9-8314-3CC7E25F5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242D-76BD-4FF1-92CA-5C56E8476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8A2-A582-450B-8F8F-077B4607E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162-0DBB-4536-B81B-FE88A4D1E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A948-EC5D-4169-9077-5165412ED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AB75-C92E-4FEC-9BE9-6D2641C67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A61D-FC0E-4DF0-84CC-E6685B73F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0981-C181-4015-BF7B-3E7127FA3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1993-CEFD-4151-BC8A-F9960D787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78F-63CC-4C38-A11B-581EDF1AA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204D-B707-4000-BCBF-BECC93F7D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6B91-6BB7-4EA4-A8BD-C6BF53D63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04EE-8049-4516-9B11-D64C07761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D595-1F3D-4077-8ECA-E86652CE6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9F3-9E8F-42AF-A6A5-5C4A22F40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A587-F6E4-4193-8663-E339A0BC0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6003-F841-4299-83B8-9EEC6F03FB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0F6-6252-414E-B315-E9E5159C3A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D07E-84AA-4D5C-914F-4122E77B9F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BE2-FA35-4FBA-B307-E5D4E541A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7ABC-7A9B-46C9-830B-4733DF638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2012-D98A-41C1-AF5E-30D3C7B21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F9B1-3C33-4BE2-9F97-68786DE13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E4FC-BABB-42B0-A0EE-59E860119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D13-800B-4967-8622-F55CC1425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B905-8270-400B-A0CA-ACB1CB20B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0B3-3087-4EC4-9EB9-147E0E3A4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0C8A-8523-43B3-8774-DB0A70F68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9933-DF1F-470C-B1E8-EF61E6BA5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05DD-89F6-43C8-8BCF-F35C8B5E8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EE5-B9EE-4130-9541-EE070C18E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BE5-5271-469E-A4AD-FCCA8921D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3339-5962-43C7-9DFE-B436487DC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A32-31B5-4FBD-AC84-7C56EBF50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ED45-8A4F-4BE1-9898-4E642A0FC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726E-EB52-4986-9BED-FF51CD22F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56D1-4086-4F0B-8B4A-61CFCED53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A7B9-3A29-492B-B05A-C7495F18D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869-3209-469D-9055-E18870AAB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360-0104-446C-884D-ED0086843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6F1C-C713-429F-AD85-DD10D4AE0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D5CE-1028-4E70-8EA6-FD53CE258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02C-F364-4849-885C-BAF0B7766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5FAB-2AE7-43BF-AD2B-3050997A4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1DC-6852-48FC-B954-E22EA2E8A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5C0-03CE-47E4-8F70-240F452D1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D0A-DAD0-4609-9FC7-88838C18E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8FC1-4B50-4FC1-89F8-6B4C12B14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21C7-C4A5-4389-9FA9-A5B6D3080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F114-B84E-49D0-8958-28ABFD5D4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933-6D08-4562-8C93-00E9266A0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E493-67BD-4CEC-AD8D-450A56C64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D686-9E97-4EFE-A23B-CA511512B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3689-5071-42D7-8F5E-37D77C1FF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EBAB-5247-4793-B6BA-893002BD4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8AAF-D9F4-450D-89F3-5060C9169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D06-80D4-426D-9247-37A2E6362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D510-A8C1-4D89-89ED-9BC1D2A96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3D7F-B70F-44C1-8BC6-93B6D07BB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8E3F-C289-44DD-9EBA-AE492C777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78DB-9DAB-4D79-BAF2-CB53D70E3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891-C94E-4419-85A7-C35A98733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249-ACC2-4260-A8B1-52EF53F9F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8FA0-F02E-47EC-8358-19F7AD6F6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8F37-CDD2-4C11-B66C-19AD54B45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DF8F-52A2-462A-974F-3852C0B06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47EE-D4D1-4E47-AADB-DC2E20172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8792-CB2D-4E8D-89C9-5578636E7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A0B-8D89-4EC6-B35F-2513DE08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1AA-D717-4CE9-89A8-A11F985C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E8B-277E-4F48-9A7B-FD531F10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1A7-CE4A-4641-BC16-0E74DE1F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2B46-F8E3-4993-A1B7-AAE00657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3D25-FE36-405A-8CB3-DA2F40A1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880-5F90-4D06-A930-C6640DFE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2A61-9643-480E-B736-B17B242A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0EDA-36BE-4776-B0ED-06DC613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38B6-5DD8-454A-8F91-71BCBAEB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7F32-0299-4E46-BC80-0569065A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EDE-D952-41C7-8756-E063AB6D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379C-93EC-49DE-A560-9427137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2E1A-D8F0-4A0A-B317-F98E4172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9018-9E37-4C02-94F9-5794B3A2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62F8-0C77-405E-AEDF-81332B5E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B3E6-FB2D-48F3-9D3A-033E6646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203C-82B7-45F1-9C07-9BC093BF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97C4-117C-4D5E-877D-180F6E8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89E4-C1A1-44A3-A4E8-BD752DC3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6F0D-49F0-4763-B874-6D4A045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5DB4-BD03-4A79-9271-E5F9775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0DE-0BE7-4EF9-A404-EF3A5F7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F99E-CA77-41A4-AF81-F729C7A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D49E-5233-48D3-A6C6-BB105C35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6AC7-4600-49ED-8BEC-97F63FF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67D4-747E-4E87-A1B7-9C68F62E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0E137-0FE1-4B89-BAE2-0D6B959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E77F-7408-48B4-9B5B-CE77F521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4CD3-DA17-4000-8AD6-A24B41D2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9FF-0327-41E1-B457-88D52B9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B98-0E31-425A-A7FB-A858B64C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6F3-CA7D-4B38-8756-AD288E13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5FC-E82E-4331-87F0-473D9114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9C7-5053-4055-AE28-E33CF74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108-D03F-45F1-8D24-EAF7A42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4FF-8E7E-4887-A816-2AA68A553F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6476-C9F0-4853-81FC-274CB5B7A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5FAE-505B-4E9F-8D14-1766349ABC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bertina"/>
          <p:cNvPicPr/>
          <p:nvPr/>
        </p:nvPicPr>
        <p:blipFill>
          <a:blip r:embed="rId1"/>
          <a:stretch/>
        </p:blipFill>
        <p:spPr>
          <a:xfrm>
            <a:off x="1403280" y="404640"/>
            <a:ext cx="6464520" cy="1133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68360" y="191628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00"/>
                </a:solidFill>
                <a:latin typeface="Georgia"/>
              </a:rPr>
              <a:t>ИСТОРИЯ И ФИЛОСОФИЯ НАУКИ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philoslog.albertina.ru</a:t>
            </a:r>
            <a:br>
              <a:rPr sz="2400"/>
            </a:b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http://ratio.albertina.r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7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85840" y="2714760"/>
            <a:ext cx="3757680" cy="2071440"/>
          </a:xfrm>
          <a:prstGeom prst="rect">
            <a:avLst/>
          </a:prstGeom>
          <a:noFill/>
          <a:ln w="19080">
            <a:solidFill>
              <a:srgbClr val="86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Взаимодействие эмпирического и теоретического уров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57520" y="2714400"/>
            <a:ext cx="3328920" cy="1957320"/>
          </a:xfrm>
          <a:prstGeom prst="rect">
            <a:avLst/>
          </a:prstGeom>
          <a:noFill/>
          <a:ln w="28440">
            <a:solidFill>
              <a:srgbClr val="860000"/>
            </a:solidFill>
            <a:miter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Развитие научного позн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Стрелка вправо 16"/>
          <p:cNvSpPr/>
          <p:nvPr/>
        </p:nvSpPr>
        <p:spPr>
          <a:xfrm>
            <a:off x="4071960" y="342900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66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деализа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абстрактный объект, который не имеет соответствующего им эмпирического объ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Абсолютно черное тел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Материальная то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Различие абстракций идеализаций – в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нтерпретаци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теории на опы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а основе абстракций и идеализация строятся теоретические зак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3059640" y="3500280"/>
            <a:ext cx="24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Закон нау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4859280" y="486900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теоретически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042920" y="48690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эмпирически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9"/>
          <p:cNvSpPr/>
          <p:nvPr/>
        </p:nvSpPr>
        <p:spPr>
          <a:xfrm flipH="1">
            <a:off x="2916000" y="4076640"/>
            <a:ext cx="1439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4356000" y="4076640"/>
            <a:ext cx="129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Закон науки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вторяющаяся связь между объектами предметной области науки, доступная объективной провер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Symbol"/>
                <a:ea typeface="Symbol"/>
              </a:rPr>
              <a:t>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x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(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P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(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x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66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(</a:t>
            </a:r>
            <a:r>
              <a:rPr b="1" i="1" lang="en-US" sz="3600" spc="-1" strike="noStrike">
                <a:solidFill>
                  <a:srgbClr val="660000"/>
                </a:solidFill>
                <a:latin typeface="Georgia"/>
              </a:rPr>
              <a:t>x</a:t>
            </a:r>
            <a:r>
              <a:rPr b="1" lang="en-US" sz="3600" spc="-1" strike="noStrike">
                <a:solidFill>
                  <a:srgbClr val="660000"/>
                </a:solidFill>
                <a:latin typeface="Georgia"/>
              </a:rPr>
              <a:t>)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Эмпирический закон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овторяющиеся связи между явлениями, открываемые в ходе  эмпирических научных процедур (наблюдения, измерения, эксперимента) или индуктивного обобщения их результ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Если металл нагреть, то он расширяется. – 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Обобщение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фа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Теоретический закон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тношения меж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ду абстрактными объектами, допускаю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щие объективную провер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F=m*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28760" y="2142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бъекты научного исследо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611280" y="3429000"/>
          <a:ext cx="7993080" cy="22320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Идеализации = теоретические модел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Абстрактные объект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Эмпирические (наблюдаемые) объект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Rectangle 24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рмины, обозначающие эмпирические объекты называются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ми термин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рмины, обозначающие абстрактные объекты называются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ими термин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Какие объекты и их отношения допустимы в рамках теории, а какие – нет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твет – принципы научной те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. 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Принцип сохранения энергии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. При всех преобразованиях количество энергии должно оставаться неизменн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ое исследование созда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523880" y="3357720"/>
          <a:ext cx="6096240" cy="21031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Принцип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Теоретические закон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Эмпирические законы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Rectangle 24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1" lang="ru-RU" sz="22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 Научный факт и его теоретическая нагруженность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Мир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33520" indent="-623880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редметы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33520" indent="-623880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свойства предметов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433520" indent="-623880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отношения предме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оретические законы и эмпирические должны быть связаны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нтерпретация абстрактных объектов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опоставление им множеств эмпирических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истема принципов, теоретических законов и их эмпирических интерпретаций, раскрывающая связи между явлениями определенной предметной обла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нципы, законы и интерпрет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ыражаю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 виде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высказываний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об объек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Главное отличие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их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высказываний от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х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наличие ссыл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 абстрактные объек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428760" y="221436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 логической форм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система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высказываний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о некотором классе абстрактных объектов, их свойствах и отношени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2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 происхождению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ая гипотеза или система научных гипотез, выдержавших  объективную провер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учная теория  как система научных высказыван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Логическая зависимость одних высказываний от друг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Иерархичность: деление на более общие и менее общие высказы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Опосредованная связь с фактами через систему интерпретац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28760" y="21427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Отношение теоретического и эмпирическ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523880" y="4005360"/>
          <a:ext cx="6096240" cy="14554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Теори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0000"/>
                          </a:solidFill>
                          <a:latin typeface="Georgia"/>
                        </a:rPr>
                        <a:t>Эмпирический бази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Rectangle 20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57120" y="21430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й базис теори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истема фактов, связанных с теоретическими закон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ий закон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выражается при помощи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теоретического высказы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кты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выражаются в язык теории при помощи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эмпирических высказы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"Есть одно коренное явление, которое определяет научную мысль и отличает научные результаты и научные заключения ясно и просто от утверждений философии и религии, - это общеобязательность и бесспорность правильно сделанных научных выводов, научных утверждений, понятий, заключений. Научные, логически правильно сделанные действия, имеют такую силу только потому, что наука имеет свое определенное строение и что в ней существует область фактов и обобщений, которые по своей сути не могут быть реально оспариваемы". (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В.И. Вернадский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, с. 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Верификация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дтверждение теоретического высказывания при помощи эмпирических высказы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льсифика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провержение теоретического высказывания при помощи эмпирических высказы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хема верифик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 →  Е, Е ╟ 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хема фальсифик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 →  Е, не-Е├ не-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Асимметрия между фальсификацией и верификаци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Гипотеза как форма развития научного зн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ая гипотеза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ое выс-казывание, истинностное значение которого неопределенн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205080" y="234936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Гипотез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4499280" y="3789360"/>
            <a:ext cx="432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Структурный элемент</a:t>
            </a:r>
            <a:br>
              <a:rPr sz="3200"/>
            </a:b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научной теори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447480" y="3765600"/>
            <a:ext cx="328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Метод развития</a:t>
            </a:r>
            <a:br>
              <a:rPr sz="3200"/>
            </a:b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научного знани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0"/>
          <p:cNvSpPr/>
          <p:nvPr/>
        </p:nvSpPr>
        <p:spPr>
          <a:xfrm flipH="1">
            <a:off x="2484000" y="2924280"/>
            <a:ext cx="180036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1"/>
          <p:cNvSpPr/>
          <p:nvPr/>
        </p:nvSpPr>
        <p:spPr>
          <a:xfrm>
            <a:off x="4284720" y="2924280"/>
            <a:ext cx="165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Метод гипотез впервые применен в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древнегреческой математике – дедук-тивный мысленный эксперимент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ыдвижение гипотезы и вывод из нее дедуктивных следствий с целью проверки правильности первоначальной догад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95280" y="2707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Новое врем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метод гипотез применялся в скрытой форме: как часть мысленного эксперимента или индуктивного метода (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Евклид, Галилей, Ньютон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Роль гипотезы как средства развития науки – в период научной революции конца XIX –начала ХХ ве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Гипотеза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способ объяснения фактов или упорядочения научной теории, подлежащий дальнейшей провер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Гипотез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вероятное научное высказы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Научная гипотеза удовлетворяет условию принципиальной проверяемости (фаль-сифицируемость или верифицируем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Гипотетико-дедуктивный мет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Гипотетико-дедуктивный метод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метод научного исследования, заклю-чающийся в выдвижении гипотез и проверке этих гипотез путем вывода из них эмпирически проверяемых следст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кт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это суждение, истинность которого основывается на чувственных восприят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Начальные условия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высказывания, связывающие теоретические терми-ны гипотезы с эмпирическим бази-с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хема гипотетико-дедуктивного мет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Гипотеза&amp;начальные условия → &lt;дедукция&gt; → эмпирические следствия → проверка → подтверждение/опровержение → гипотеза/те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Modus ponens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modus to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. Теория эфира и эксперимент Майкельсона–Морли. Если есть эфир, то при движении Земли должен возникать эфирный ветер – сопротивление эфирной среды. Эмпирически: скорость распрос</a:t>
            </a:r>
            <a:r>
              <a:rPr b="0" lang="en-US" sz="24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транения света, исходящего из некоторого источника, будет зависеть от направления луча: луч, направление которого совпадает с направлением движения Земли будет двигаться с иной скоростью, чем луч направленный перпендикулярно ее движению. Эксперимент не обнаружил разницы в скорости распространения этих двух лучей. Предсказание не подтвердилось –</a:t>
            </a:r>
            <a:r>
              <a:rPr b="0" lang="en-US" sz="2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ложность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Схема научного исслед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6"/>
          <p:cNvSpPr/>
          <p:nvPr/>
        </p:nvSpPr>
        <p:spPr>
          <a:xfrm>
            <a:off x="3710880" y="191628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Теор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3206160" y="278136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Подтвержде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3637440" y="35733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Гипоте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3132720" y="443700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Измени гипотез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6445800" y="364500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Предсказа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613440" y="36450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Наблюд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351240" y="53006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Опровергну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3711240" y="609300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Arial"/>
              </a:rPr>
              <a:t>провер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4"/>
          <p:cNvSpPr/>
          <p:nvPr/>
        </p:nvSpPr>
        <p:spPr>
          <a:xfrm flipV="1">
            <a:off x="4356000" y="4797000"/>
            <a:ext cx="0" cy="6476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5"/>
          <p:cNvSpPr/>
          <p:nvPr/>
        </p:nvSpPr>
        <p:spPr>
          <a:xfrm flipV="1">
            <a:off x="4356000" y="5734080"/>
            <a:ext cx="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6"/>
          <p:cNvSpPr/>
          <p:nvPr/>
        </p:nvSpPr>
        <p:spPr>
          <a:xfrm flipV="1">
            <a:off x="4356000" y="3933360"/>
            <a:ext cx="0" cy="5749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7"/>
          <p:cNvSpPr/>
          <p:nvPr/>
        </p:nvSpPr>
        <p:spPr>
          <a:xfrm flipV="1">
            <a:off x="4356000" y="3213000"/>
            <a:ext cx="0" cy="5032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8"/>
          <p:cNvSpPr/>
          <p:nvPr/>
        </p:nvSpPr>
        <p:spPr>
          <a:xfrm flipV="1">
            <a:off x="4356000" y="2349000"/>
            <a:ext cx="0" cy="5749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9"/>
          <p:cNvSpPr/>
          <p:nvPr/>
        </p:nvSpPr>
        <p:spPr>
          <a:xfrm>
            <a:off x="2700360" y="3860640"/>
            <a:ext cx="936720" cy="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20"/>
          <p:cNvSpPr/>
          <p:nvPr/>
        </p:nvSpPr>
        <p:spPr>
          <a:xfrm>
            <a:off x="5292720" y="3860640"/>
            <a:ext cx="936720" cy="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21"/>
          <p:cNvSpPr/>
          <p:nvPr/>
        </p:nvSpPr>
        <p:spPr>
          <a:xfrm flipH="1">
            <a:off x="5292360" y="4149720"/>
            <a:ext cx="2303640" cy="215892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22"/>
          <p:cNvSpPr/>
          <p:nvPr/>
        </p:nvSpPr>
        <p:spPr>
          <a:xfrm>
            <a:off x="1619280" y="4149720"/>
            <a:ext cx="2016000" cy="2158920"/>
          </a:xfrm>
          <a:prstGeom prst="line">
            <a:avLst/>
          </a:prstGeom>
          <a:ln w="19080">
            <a:solidFill>
              <a:srgbClr val="66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3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3. 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Научные факты и научные теор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Результат наблюдения, измерения или экспе-римента, характеризующийся повторяемостью и связью с научной теорией – фа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529200" algn="just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Теоретическая нагруженность ф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529200" algn="just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00"/>
                </a:solidFill>
                <a:latin typeface="Georgia"/>
              </a:rPr>
              <a:t>Относительность эмпирического базиса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Факт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это мысль о предметах нашего мира, их свойствах или отношениях, которую можно непосредственно проверить при помощи показаний органов чув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Факт выражается суждением следующей структуры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убъект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суждения – единичное понятие о предмете, данном нам в чувственном восприят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предикат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суждения – свойство или отношение, наличие которого у предмета может быть установлено при помощи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781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. Данный медный стер</a:t>
            </a:r>
            <a:r>
              <a:rPr b="0" lang="en-US" sz="40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жень при нагревании расширя</a:t>
            </a:r>
            <a:r>
              <a:rPr b="0" lang="en-US" sz="40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ет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00"/>
                </a:solidFill>
                <a:latin typeface="Georgia"/>
              </a:rPr>
              <a:t>Факты могут быть простыми и сложным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П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р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о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с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т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о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й 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ф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а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к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т – это факт, выраженный отдельным единичным суждением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С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л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о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ж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н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ы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й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ф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а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к</a:t>
            </a:r>
            <a:r>
              <a:rPr b="0" i="1" lang="en-US" sz="34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0" i="1" lang="ru-RU" sz="3400" spc="-1" strike="noStrike">
                <a:solidFill>
                  <a:srgbClr val="660000"/>
                </a:solidFill>
                <a:latin typeface="Georgia"/>
              </a:rPr>
              <a:t>т – это факт, выраженный конъюнкцией единичных суждени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. "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Эта бумага белая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", если обозначить термин "эта бумага" через 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, а предикат "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быть белым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" – через 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Р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, мы запишем в следующей форме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Р(а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Факт «</a:t>
            </a: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Эта бумага белая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» является просты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Сложный факт "</a:t>
            </a: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Эта бумага белая и мягкая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"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Р(а)</a:t>
            </a:r>
            <a:r>
              <a:rPr b="0" lang="ru-RU" sz="4000" spc="-1" strike="noStrike">
                <a:solidFill>
                  <a:srgbClr val="660000"/>
                </a:solidFill>
                <a:latin typeface="Symbol"/>
                <a:ea typeface="Symbol"/>
              </a:rPr>
              <a:t></a:t>
            </a: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Q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Лекция 4. Структура научного знани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Научное знание как сложная развивающаяся система. Эмпирический и теоретический уровни зна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2.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 Теория и ее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859280" y="189000"/>
            <a:ext cx="39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logo_ratio"/>
          <p:cNvPicPr/>
          <p:nvPr/>
        </p:nvPicPr>
        <p:blipFill>
          <a:blip r:embed="rId1"/>
          <a:stretch/>
        </p:blipFill>
        <p:spPr>
          <a:xfrm>
            <a:off x="179280" y="14292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ogo univ"/>
          <p:cNvPicPr/>
          <p:nvPr/>
        </p:nvPicPr>
        <p:blipFill>
          <a:blip r:embed="rId2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учный фа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Georgia"/>
              </a:rPr>
              <a:t>Научный факт получается в результате научной процедур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660000"/>
                </a:solidFill>
                <a:latin typeface="Georgia"/>
              </a:rPr>
              <a:t>Научная процедура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 – методы чувственного познания, примененные научным образо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ризнак </a:t>
            </a: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научности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факта:</a:t>
            </a:r>
            <a:r>
              <a:rPr b="0" lang="ru-RU" sz="34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овторяемость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 получение данного действия всякий раз, как имеются данные усло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35892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вязь с научной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тео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ый факт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единичное суждение, выражающее регулярно повторяющийся результат наблюдения, измерения или эксперимента и связанное с некоторой научной теор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пособы получения фактов в на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555560" y="3141720"/>
            <a:ext cx="63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Метод чувственного познани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02120" y="450864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наблюд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281400" y="450864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измер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021720" y="450864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эксперимен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 flipH="1">
            <a:off x="1907640" y="3645000"/>
            <a:ext cx="251964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4427640" y="3645000"/>
            <a:ext cx="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4427640" y="3645000"/>
            <a:ext cx="259236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1.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Научное наблюдение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это целенаправленное и организованное восприятие предметов опы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781720" y="242100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Arial"/>
              </a:rPr>
              <a:t>Наблюде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43840" y="4076640"/>
            <a:ext cx="28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Arial"/>
              </a:rPr>
              <a:t>Ощуще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4950720" y="4076640"/>
            <a:ext cx="37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Arial"/>
              </a:rPr>
              <a:t>Интроспекци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2484000" y="3068640"/>
            <a:ext cx="1871640" cy="115236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4356000" y="3068640"/>
            <a:ext cx="1800360" cy="1224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Ощущение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воспроизведение субъектом отдельных свойств, сторон предметов или процессов внешне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нтроспек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восприятие переживаний, чувств, психических состояний самого субъ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Наблюдател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00"/>
                </a:solidFill>
                <a:latin typeface="Georgia"/>
              </a:rPr>
              <a:t>сознательно ищет факты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20001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Наблюдател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руководствуется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algn="just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дее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algn="just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гипотез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07920" algn="just">
              <a:lnSpc>
                <a:spcPct val="100000"/>
              </a:lnSpc>
              <a:spcBef>
                <a:spcPts val="1349"/>
              </a:spcBef>
              <a:buClr>
                <a:srgbClr val="66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режним опыт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Учены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сознательно отбирает те факты, которые могут либо подтвердить, либо опровергнуть его иде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13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нтерпретирует факты в свете некоторой теор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Georgia"/>
              </a:rPr>
              <a:t>Степин В.С</a:t>
            </a: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. Философия науки. Общие проблемы: учебник для аспирантов и соискателей ученой степени кандидата наук. – М.: Гардарики, 2006. Гл, 2. С. 156-1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00"/>
                </a:solidFill>
                <a:latin typeface="Georgia"/>
              </a:rPr>
              <a:t>Вернадский В.И</a:t>
            </a: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. Научная мысль как планетное явление // Вернадский В.И. О науке. Т. 1. Научное знание. Научное творчество. Научная мысль. - М.: Феникс, 1997.С.  339-388, 400-4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Структура  наблю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наблюдаемый объек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воспринимающий субъек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конкретные условия места и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специальные средства наблюдения (микроскопы, телескопы, фото- и телеаппараты и т. п.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8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концептуальные средства, т. е. понятия и теории, с помощью которых организуются и в особенности интерпретируются научные наблю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00"/>
                </a:solidFill>
                <a:latin typeface="Georgia"/>
              </a:rPr>
              <a:t>Научное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 наблюдение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интерсубъективно</a:t>
            </a:r>
            <a:r>
              <a:rPr b="1" i="1" lang="ru-RU" sz="40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Интерсубъективность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езависимость результата наблюде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т индивидуальных особенностей наблюдат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00040" y="2285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Гарант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нтерсубъективности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00"/>
                </a:solidFill>
                <a:latin typeface="Georgia"/>
              </a:rPr>
              <a:t>повторяемость</a:t>
            </a: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Повторяемость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при данных условиях и в определенных пределах точности измере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озможность получ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ого же самого результа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любым субъектом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обладающим достаточными для данного наблюдения навыкам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20001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граничения наблюд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иллюзии восприятия – палка, опущенная в воду, кажется сломанной; параллельно расположенные рельсы вдали кажутся сходящими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едвзятые склонности или представления, ошибочные исходные устано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вышение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степени объективности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блюден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результаты должны получены и зафиксированы другими наблюдателям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5414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результаты анализируются и корректируются в свете существующих теоретичес-ких представл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Georgia"/>
              </a:rPr>
              <a:t>В наук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Georgia"/>
              </a:rPr>
              <a:t>наблюдение проводится только в свет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00"/>
                </a:solidFill>
                <a:latin typeface="Georgia"/>
              </a:rPr>
              <a:t>теори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История науки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екоторые факты или данные длительное время оставались случайными открытиями, пока не была создана тео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000" spc="-1" strike="noStrike">
                <a:solidFill>
                  <a:srgbClr val="660000"/>
                </a:solidFill>
                <a:latin typeface="Georgia"/>
              </a:rPr>
              <a:t>. Древние греки знали свойства янтаря, потертого о сукно, притягивать легчайшие тела (электризация трением) или же магнитного железняка притягивать металлические предметы (естественный магнетизм). До создания теории электро-магнитных явлений эти факты оставались любопытными курьезами природы. В свете теории, они стали той исходной базой, которая послужила фундаментом современ-ной техни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956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Литература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Микешина Л.А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. Философия науки. – М.: Прогресс-Традиция, 2005. - С. 258-33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0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Никифоров А.Л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. Философия науки: История и методология. - М.: Дом интеллектуальной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книги, 1998. Часть II. Гл.II, III. С. 144-17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0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0000"/>
                </a:solidFill>
                <a:latin typeface="Georgia"/>
              </a:rPr>
              <a:t>Рузавин Г.И</a:t>
            </a: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. Философия науки. М.: ЮНИТИ-ДАНА, 2005. С. 85-12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иды наблю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о способу восприятия объекта наблюд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988360" y="371628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наблюдени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5148720" y="5013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косвенны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68360" y="5013360"/>
            <a:ext cx="42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непосредственны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9"/>
          <p:cNvSpPr/>
          <p:nvPr/>
        </p:nvSpPr>
        <p:spPr>
          <a:xfrm flipH="1">
            <a:off x="2771280" y="4292640"/>
            <a:ext cx="158436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4356000" y="4292640"/>
            <a:ext cx="1511280" cy="792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Непосредственное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наблюдение ос-новано на восприятии субъектом самого наблюдаемого объ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Наблюдение биологом жизни муравейника или поведение обезьян в рамках одной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освенное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наблюд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160" indent="-50868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опирается на предположение об опре-деленной закономерной связи между свой-ствами непосредственно наблюдаемых объектов и наблюдаемыми проявлениями этих свой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160" indent="-508680" algn="just">
              <a:lnSpc>
                <a:spcPct val="9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одержит логический вывод о свойствах ненаблюдаемого объекта на основе наблю-даемого эффекта его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Физик, изучая поведение элементарных частиц, непосредственно наблюдает лишь их треки в камере Вильсона, которые представляют собой результат взаимодействия элементарной частицы с молекулами пара, запол-няющего камеру. По характеру треков физик судит о поведении и свойствах част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Функции наблюдения в научном исследовани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1560" indent="-519480" algn="just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получение эмпирической информа-ции, необходимой для постановки новых проблем и выдвижения гипо-тез –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эвристическа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1560" indent="-519480" algn="just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участие в проверке гипотез и теорий –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роверочна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2. </a:t>
            </a:r>
            <a:r>
              <a:rPr b="1" lang="ru-RU" sz="4000" spc="-1" strike="noStrike">
                <a:solidFill>
                  <a:srgbClr val="660000"/>
                </a:solidFill>
                <a:latin typeface="Georgia"/>
              </a:rPr>
              <a:t>Измер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Измерение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 – процесс представ-ления свойств реальных объек-тов в виде числовой величи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Величин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характеристика объекта, которая пожжет быть присуща объекту в большей или меньшей степе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Числовая величин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– величина, ко-торая может быть выражена числ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1764720" y="2637000"/>
            <a:ext cx="51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Arial"/>
              </a:rPr>
              <a:t>Результат наблюдени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3143160" y="4286160"/>
            <a:ext cx="23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сравните-льное понят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79280" y="4221000"/>
            <a:ext cx="289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качественное понят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2484000" y="3213000"/>
            <a:ext cx="1871640" cy="10080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4356000" y="3213000"/>
            <a:ext cx="46080" cy="114480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4357800" y="3214800"/>
            <a:ext cx="2714400" cy="1000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5802480" y="4452840"/>
            <a:ext cx="289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количествен-ное понят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ачественные поняти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такие, как «теплый», «зеленый», «большой», – обозначают некоторые классы предметов и, приписывая предмету свойство, выражаемое качественным понятием, мы тем самым включаем этот предмет в определенный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Качественные поняти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– основа класси-фикации 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Сравнительные понятия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выражают сравнительную степень интенсив-ности свой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Задача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: установить некоторые соот-ношения между классами однород-ных предметов с помощью таких понятий, таких, как «больше», «теплее», «легче» и т.п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 Эмпирический и теоретический уровни познания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9285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Теория научного познани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00"/>
                </a:solidFill>
                <a:latin typeface="Georgia"/>
              </a:rPr>
              <a:t>Эпистемология нау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Сравнительные понятия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 созда-ют последовательность предме-тов исследуемой области, упо-рядочивают в определенную по-следова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С помощью понятий «тяжелее», «легче», «равный по весу» мы можем все предметы расположить в последовательность классов, таких, что в один класс попадут предметы, равные по весу, предметы каждого предшеству-ющего класса будут легче предметов последующего класса и предметы последующего – тяжелее предметов предшествующе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00"/>
                </a:solidFill>
                <a:latin typeface="Georgia"/>
              </a:rPr>
              <a:t>Количественные понятия</a:t>
            </a:r>
            <a:r>
              <a:rPr b="0" lang="ru-RU" sz="4000" spc="-1" strike="noStrike">
                <a:solidFill>
                  <a:srgbClr val="660000"/>
                </a:solidFill>
                <a:latin typeface="Georgia"/>
              </a:rPr>
              <a:t> выра-жают степень интенсивности некоторого свойства в виде чис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Измерение твердости минералов: один минерал считается более твердым, чем другой, если он может оставить царапину на этом втором минерале. Все минералы располагаются в последовательность, в которой каждый следующий является более твердым, чем предшествующий. Алмазу – самому твердому минералу – приписано число 10; остальным – тем меньшее число, чем дальше отстоит минерал от алмаза в данной последова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Основное уравнение изме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усть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обозначает некоторую степень измеряемого свойства,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U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единицу измерения, а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 – числовое значение соответствующей величины. Тогда результат измерения можно выразить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Q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 =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3.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Экспери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Эксперимент обеспечивает возможность </a:t>
            </a: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активного воздействия на изучаемые явления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53568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непосредственное воздейств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53568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изменение условий, в которых происходит это явл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53568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тесная связь эксперимента с теори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Гали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истематическое применение экспери-мента в нау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С помощью опыта Галилей опроверг утверждение Аристотеля о том, что скорость падающего тела пропорциональна его весу. Сбросив с высоты в 60 м пушечное ядро массой в 80 кг и мушкетную пулю с массой около 200 г, он убедился, что оба тела достигли поверхности Земли одноврем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Структура эксперимент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труктура наблю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Средства воздействия на изучаемый объе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иды экспери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А. По цели экспери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2987280" y="3860640"/>
            <a:ext cx="26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Эксперимен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5364000" y="5229360"/>
            <a:ext cx="22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Поисково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755640" y="522936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Arial"/>
              </a:rPr>
              <a:t>Проверочны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"/>
          <p:cNvSpPr/>
          <p:nvPr/>
        </p:nvSpPr>
        <p:spPr>
          <a:xfrm flipH="1">
            <a:off x="2555640" y="4508640"/>
            <a:ext cx="165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4211640" y="4508640"/>
            <a:ext cx="1655640" cy="86508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Проверочный эксперимент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осущест-вляет эмпирическую проверку гипо-тезы или тео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Эксперимент Галилея по изучению законов падения т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en-US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 Эмпирический и теоретический уровни познания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4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116000" y="221472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Arial"/>
              </a:rPr>
              <a:t>Основные познавательные способнос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46960" y="371484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Arial"/>
              </a:rPr>
              <a:t>чувств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504480" y="378612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Arial"/>
              </a:rPr>
              <a:t>разу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1571760" y="3000240"/>
            <a:ext cx="2736720" cy="865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4357800" y="3000240"/>
            <a:ext cx="2735280" cy="865440"/>
          </a:xfrm>
          <a:prstGeom prst="line">
            <a:avLst/>
          </a:prstGeom>
          <a:ln w="19080">
            <a:solidFill>
              <a:srgbClr val="66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en-US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9528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Поисковый эксперимент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 собирает необходимую эмпирическую инфор-мацию для построения или уточ-нения некоторой гипоте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Б. По характеру исследуемого объек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физическ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химическ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биологическ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сихологическ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социальные и др. экспери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. По характеру объекта изуч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52344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прямой эксперимент, если объект – реально существующий предмет или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9760" indent="-52344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модельный эксперимент, если вместо самого предмета используется некоторая его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Вычислительный эксперимент – разно-видность модельного эксперим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</a:t>
            </a:r>
            <a:r>
              <a:rPr b="0" i="1" lang="en-US" sz="1800" spc="-1" strike="noStrike">
                <a:solidFill>
                  <a:srgbClr val="660000"/>
                </a:solidFill>
                <a:latin typeface="Georgia"/>
              </a:rPr>
              <a:t>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Г. По методу и результатам иссле-до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качеств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53964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количеств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00"/>
                </a:solidFill>
                <a:latin typeface="Georgia"/>
              </a:rPr>
              <a:t>Планирование и построение экспе-ри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1.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Формулировка проблемы, которая требует экспериментального разрешения: эмпирическая проверка  гипотезы или теории, уточнение или построение новой гипотез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2. Выделение факторов, которые оказывают существенное влияние на эксперимент, и факторов, которые можно не принимать во вним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2800" spc="-1" strike="noStrike">
                <a:solidFill>
                  <a:srgbClr val="660000"/>
                </a:solidFill>
                <a:latin typeface="Georgia"/>
              </a:rPr>
              <a:t>. Галилей в своих экспериментах по изучению законов свободного падения тел не учитывал влияние </a:t>
            </a:r>
            <a:r>
              <a:rPr b="0" i="1" lang="ru-RU" sz="2800" spc="-1" strike="noStrike">
                <a:solidFill>
                  <a:srgbClr val="660000"/>
                </a:solidFill>
                <a:latin typeface="Georgia"/>
              </a:rPr>
              <a:t>сопротивления воздуха, неоднородность поля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Обоснование осуществимости эксперимента. Объяснение функци-онирование будущей эксперимен-тальной установки с помощью уже известной и хорошо подтвержденной тео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4.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Контроль эксперимента. Органи-зация контрольной группы. В  качестве контрольной группы или системы может служить сам исследуемый объект. При исследовании биологических и соци-альных явлений чаще всего в качестве контрольной системы выбирается отдель-ная совокупность или система индивиду-у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5.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Интерпретация результатов эксперимента, т.е. установление связи с существующей или новой теори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00"/>
                </a:solidFill>
                <a:latin typeface="Georgia"/>
              </a:rPr>
              <a:t>Функции эксперимента в научном исследов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опытная проверка гипотез и теор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формирование новых гипотез и теоретических представ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ый факт и его теоретическая нагруженно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Органы чувств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>
              <a:lnSpc>
                <a:spcPct val="80000"/>
              </a:lnSpc>
              <a:spcBef>
                <a:spcPts val="1349"/>
              </a:spcBef>
              <a:buClr>
                <a:srgbClr val="9999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беспечивают непосредственный контакт с окружающим миром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>
              <a:lnSpc>
                <a:spcPct val="80000"/>
              </a:lnSpc>
              <a:spcBef>
                <a:spcPts val="1349"/>
              </a:spcBef>
              <a:buClr>
                <a:srgbClr val="9999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дают материал для чувственных образ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567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00"/>
                </a:solidFill>
                <a:latin typeface="Georgia"/>
              </a:rPr>
              <a:t>3.</a:t>
            </a: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 Теоретическое знание и его структура. Теория и ее функции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Объективность научного зн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00"/>
                </a:solidFill>
                <a:latin typeface="Georgia"/>
              </a:rPr>
              <a:t>порожд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универсализ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Зн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универсально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тносительно какой-либо области объектов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когда входящие в него суждения претендуют на истинность для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любого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объекта этой обла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Универсальность научного знан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беспечивает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теор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Научная теория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сновная единица анализа научного з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форма организации научного знания, дающая целостное представление о закономерностях и существенных связях определенной области объек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Научная теор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ысшая форма организации научного зн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95280" y="278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Теор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появляется на зрелой стадии развития научной дисципли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описательная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	</a:t>
            </a: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 объяснитель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Прямая со стрелкой 6"/>
          <p:cNvCxnSpPr/>
          <p:nvPr/>
        </p:nvCxnSpPr>
        <p:spPr>
          <a:xfrm flipH="1">
            <a:off x="1856520" y="2570760"/>
            <a:ext cx="264420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6" name="Прямая со стрелкой 8"/>
          <p:cNvCxnSpPr/>
          <p:nvPr/>
        </p:nvCxnSpPr>
        <p:spPr>
          <a:xfrm>
            <a:off x="4500360" y="2571480"/>
            <a:ext cx="214380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описательная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теория – систематизация   исследуемых объектов, их свойств и отно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Карл Линней </a:t>
            </a:r>
            <a:r>
              <a:rPr b="1" lang="en-US" sz="2400" spc="-1" strike="noStrike">
                <a:solidFill>
                  <a:srgbClr val="860000"/>
                </a:solidFill>
                <a:latin typeface="Times New Roman"/>
              </a:rPr>
              <a:t>“Systema Naturae” (1735)</a:t>
            </a: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построение естественной системы природы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деление природного мира на три</a:t>
            </a:r>
            <a:r>
              <a:rPr b="1" lang="en-US" sz="2400" spc="-1" strike="noStrike">
                <a:solidFill>
                  <a:srgbClr val="86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цар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минерально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растительно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животно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выделение четырех уровней (рангов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класс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отря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род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0000"/>
                </a:solidFill>
                <a:latin typeface="Times New Roman"/>
              </a:rPr>
              <a:t>ви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60000"/>
                </a:solidFill>
                <a:latin typeface="Georgia"/>
              </a:rPr>
              <a:t>Разум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3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вскрывает внутреннее строение вещей,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3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выявляет существенные свойства вещей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3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0000"/>
                </a:solidFill>
                <a:latin typeface="Georgia"/>
              </a:rPr>
              <a:t>устанавливает причинные связи событий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Значение описательной теории Линне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разрабатывает основные положения научной систематики,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строит естественную классификацию растений, которая «сама по себе указывает даже на пропущенные растения» (</a:t>
            </a:r>
            <a:r>
              <a:rPr b="1" lang="en-US" sz="3200" spc="-1" strike="noStrike">
                <a:solidFill>
                  <a:srgbClr val="6e0000"/>
                </a:solidFill>
                <a:latin typeface="Times New Roman"/>
              </a:rPr>
              <a:t>SN)</a:t>
            </a: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ctr">
              <a:lnSpc>
                <a:spcPct val="10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00"/>
                </a:solidFill>
                <a:latin typeface="Georgia"/>
              </a:rPr>
              <a:t>объяснительная</a:t>
            </a: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 теория</a:t>
            </a:r>
            <a:r>
              <a:rPr b="1" lang="en-US" sz="28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истема высказываний, описывающих причинно-следственную структуру исследуемой области объе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Объяснительные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теории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знак зрелости нау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бласть знания считается научной только тогда, когда в ней появляются объяснительные те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бъяснительная теори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ме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гипотетико-дедуктивную структур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42960" y="19998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снованием теории служ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бор исходных понятий (величин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бор фундаментальных принципов (постулатов, законов), включающих только исходные пон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5280" y="20001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сходные понятия и принципы выражаю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сновные, наиболее фундаментальные связи и отношения изучаемой области, которыми определяются все остальные я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</a:t>
            </a:r>
            <a:r>
              <a:rPr b="0" lang="ru-RU" sz="3200" spc="-1" strike="noStrike">
                <a:solidFill>
                  <a:srgbClr val="660000"/>
                </a:solidFill>
                <a:latin typeface="Georgia"/>
              </a:rPr>
              <a:t>. 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снованием классической механики являю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нятия материальной точки, силы, скорост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ри закона динамики Ньютона, связывающие эти понят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Менее фундаментальные законы изучаемой области дедуктивн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выводятся из основоположений теор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сходные понятия и принципы теории формируют </a:t>
            </a: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идеализированный объект теори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т.е.  систем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абстрактных объектов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Georgi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в классической механике таким объектом является система материальных точек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в молекулярно-кинетической теории – множество замкнутых в определенном объеме хаотически соударяющихся моле</a:t>
            </a:r>
            <a:r>
              <a:rPr b="1" lang="en-US" sz="2600" spc="-1" strike="noStrike">
                <a:solidFill>
                  <a:srgbClr val="660000"/>
                </a:solidFill>
                <a:latin typeface="Georgia"/>
              </a:rPr>
              <a:t>-</a:t>
            </a: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кул, представляемых в виде абсолютно упругих материальных шариков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90000"/>
              </a:lnSpc>
              <a:spcBef>
                <a:spcPts val="975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00"/>
                </a:solidFill>
                <a:latin typeface="Georgia"/>
              </a:rPr>
              <a:t>в теории относительности – множество инерциальных сист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Научное знание как развивающаяся систем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Эмпирический и теоретический уровни позн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2492280"/>
          <a:ext cx="8229600" cy="2835360"/>
        </p:xfrm>
        <a:graphic>
          <a:graphicData uri="http://schemas.openxmlformats.org/drawingml/2006/table">
            <a:tbl>
              <a:tblPr/>
              <a:tblGrid>
                <a:gridCol w="2674800"/>
                <a:gridCol w="3000600"/>
                <a:gridCol w="2554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способност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Уровень познани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содержани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разу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теоретически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знание закон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чувств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эмпирически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Arial"/>
                        </a:rPr>
                        <a:t>знание факт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00"/>
                      </a:solidFill>
                    </a:lnL>
                    <a:lnR w="9360">
                      <a:solidFill>
                        <a:srgbClr val="660000"/>
                      </a:solidFill>
                    </a:lnR>
                    <a:lnT w="9360">
                      <a:solidFill>
                        <a:srgbClr val="660000"/>
                      </a:solidFill>
                    </a:lnT>
                    <a:lnB w="936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103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деализированный объект  теори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отображ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абстрагированные свойства реальных вещей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понятие объекта, движущегося без трения – по инерци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абсолютно твердое или абсолютно черное тел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совершенное зеркал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540000" algn="just">
              <a:lnSpc>
                <a:spcPct val="80000"/>
              </a:lnSpc>
              <a:spcBef>
                <a:spcPts val="1049"/>
              </a:spcBef>
              <a:buClr>
                <a:srgbClr val="66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Georgia"/>
              </a:rPr>
              <a:t>идеальный га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57120" y="1928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Абстрактные объек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озволяют отвлечься от второстепенных, несущественных свойств и отношений реального мир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выделить существенные для данного исследования свойства и отношения в чистом ви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Идеализированный объект теор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служит д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теоретической интерпретации ее исходных понятий и принцип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85840" y="21430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В.С. Степин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идеализированный объект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= теоретическая мод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57120" y="21427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Абстракция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оцесс и результат отвлечения от объекта отдельных свойств и отнош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Пример. Тел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бладать тяжестью – одно из свойств тел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ходиться над поверхностью Земли – отношение те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4000" y="2781000"/>
            <a:ext cx="82296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Georgia"/>
              </a:rPr>
              <a:t>Абстрактный объект</a:t>
            </a: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Georgia"/>
              </a:rPr>
              <a:t>абстракция, рассматриваемая независимо от того предмета, от которого она отвлечен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3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Наличие абстрактных объектов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основа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универсальности</a:t>
            </a:r>
            <a:r>
              <a:rPr b="1" i="1" lang="en-US" sz="3200" spc="-1" strike="noStrike">
                <a:solidFill>
                  <a:srgbClr val="66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(всеобщности)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 нау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Формулируется утверждение для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одного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абстрактного объект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а получается знание о </a:t>
            </a:r>
            <a:r>
              <a:rPr b="1" i="1" lang="ru-RU" sz="3200" spc="-1" strike="noStrike">
                <a:solidFill>
                  <a:srgbClr val="660000"/>
                </a:solidFill>
                <a:latin typeface="Georgia"/>
              </a:rPr>
              <a:t>каждом</a:t>
            </a:r>
            <a:r>
              <a:rPr b="1" lang="ru-RU" sz="3200" spc="-1" strike="noStrike">
                <a:solidFill>
                  <a:srgbClr val="660000"/>
                </a:solidFill>
                <a:latin typeface="Georgia"/>
              </a:rPr>
              <a:t> эмпирическом объекте, от которого отвлечено данное свойство или отно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logo univ"/>
          <p:cNvPicPr/>
          <p:nvPr/>
        </p:nvPicPr>
        <p:blipFill>
          <a:blip r:embed="rId1"/>
          <a:stretch/>
        </p:blipFill>
        <p:spPr>
          <a:xfrm>
            <a:off x="179280" y="1364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468360" y="1125360"/>
            <a:ext cx="795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етическое знание и его структура.</a:t>
            </a:r>
            <a:br>
              <a:rPr sz="1800"/>
            </a:br>
            <a:r>
              <a:rPr b="0" i="1" lang="ru-RU" sz="1800" spc="-1" strike="noStrike">
                <a:solidFill>
                  <a:srgbClr val="660000"/>
                </a:solidFill>
                <a:latin typeface="Georgia"/>
              </a:rPr>
              <a:t>Теория и ее функц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1835280" y="171360"/>
            <a:ext cx="69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64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Философия науки</a:t>
            </a:r>
            <a:br>
              <a:rPr sz="1400"/>
            </a:br>
            <a:r>
              <a:rPr b="0" lang="ru-RU" sz="1400" spc="-1" strike="noStrike">
                <a:solidFill>
                  <a:srgbClr val="ffcc66"/>
                </a:solidFill>
                <a:latin typeface="Georgia"/>
              </a:rPr>
              <a:t>Лекция 4. Структура научного зн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14:36Z</dcterms:created>
  <dc:creator>David</dc:creator>
  <dc:description/>
  <dc:language>en-US</dc:language>
  <cp:lastModifiedBy>1101049901</cp:lastModifiedBy>
  <dcterms:modified xsi:type="dcterms:W3CDTF">2011-02-04T05:20:21Z</dcterms:modified>
  <cp:revision>61</cp:revision>
  <dc:subject/>
  <dc:title>Слайд 1</dc:title>
</cp:coreProperties>
</file>